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BFD-0F82-4504-81EE-AA1616C3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99B-AC80-44B1-ACC2-4DAA2CC7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AFE-FD56-48D7-99F7-54B88AF4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BA9-DDA6-4F56-BA65-8F2E30FB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6389-AF8B-4439-8503-411A0B38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1D76-C2E1-4044-92BB-9D76810A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340-278E-4F80-B645-E67C3725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2B27-55F2-498E-91BE-24BCFE0C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7312-958B-47E6-8BDB-D5B9C591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5050-B071-4567-B42C-D68CF517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87F9-01A5-4A1A-A131-2C1A8DF7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5DB-A0C8-4A8C-A96F-9F27E94F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98FA-D091-4610-9AC0-8124CBB6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3EB4-4B9A-4371-8B23-C943840B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73E1-CDD9-4F1D-B15C-8760DD8D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DEAE-055E-4681-B8A4-18FFF2B1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512F-C7AD-4B52-A414-1133C5C8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D83-C28C-4812-AA0A-14ABCD47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7DE-4C29-4F3B-B8BF-C5AEC4F8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A66-A27C-4DB8-832F-9BC8587A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A90-719D-4C6A-B4B9-45552C7B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0AB-53A2-4766-BE86-633DB7DC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E16-7C01-4320-80F6-D4B708A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EC1-2423-4020-AE90-746CB4B0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A294-29F0-4C0D-AD31-CB3D55456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3ACF-B89F-4CCB-B95E-B178051F6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PER PLATE MENU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Food Guide Pyramid to choose your breakfast, lunch, and din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you need something to dr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and paste the food ads/coupons to your paper p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repared to present this plate to the class and identify which food group each food belongs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3:46:36Z</dcterms:created>
  <dc:creator>GSCS</dc:creator>
  <dc:description/>
  <dc:language>en-US</dc:language>
  <cp:lastModifiedBy>GSCS</cp:lastModifiedBy>
  <dcterms:modified xsi:type="dcterms:W3CDTF">2010-10-26T13:52:53Z</dcterms:modified>
  <cp:revision>1</cp:revision>
  <dc:subject/>
  <dc:title>PAPER PLATE MENU</dc:title>
</cp:coreProperties>
</file>